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14.jpeg" ContentType="image/jpeg"/>
  <Override PartName="/ppt/media/image22.gif" ContentType="image/gif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892-F10C-48E0-96FE-FF8B7B26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AF1-EC51-4C07-8CCC-C2F7C1A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5E2-347E-43FE-BC1E-C75AC056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49C-DCD6-41E0-A077-8C01ABC4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9427-64CD-4D70-A1C3-0F317FE4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C38-E6B7-4E0D-8647-42242E4A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5858-EF36-4250-BAEA-3E91313B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969E-7353-4B05-ADFE-69C467E3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421-92D6-4060-A13A-DAE9A334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EC4A-0F1F-427C-BB50-5D362A3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0530-C606-4D20-A570-A631C2A3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828-3422-4282-BD4C-3C7CA3A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1670-B79D-473F-9FD8-6F080E0E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57F-C25D-4D61-B7BC-961C797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F87E-0463-42F9-9578-25E0C2A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0CF9-C7F4-470C-96F3-F79A09E1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9EC6-401B-44F0-857F-AD8B2DB4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5C1-CAB4-4827-8787-463F2D3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36F-7836-4F67-BA60-32877B6E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9D8-D429-4BF2-8236-F4392CC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BD8-D105-4D49-AB7E-45DFBF2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B2F-49F6-42FB-AC05-C1B4D86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DC0-7A5D-4B25-91A1-43FAE53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BC9-3816-4AE7-8B08-389C8D4D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C2EC-6264-471D-9366-6ACEEFB2AB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6676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E20F-B39D-4AD6-BE99-8F97EF1788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images.google.com/imgres?imgurl=http://www.sensaciondeportiva.com/fotos/fifa_logo.jpg&amp;imgrefurl=http://www.sensaciondeportiva.com/notasdetalle.php%3Fid%3D237&amp;h=200&amp;w=200&amp;sz=7&amp;tbnid=DeDGpv_PCKkJ:&amp;tbnh=99&amp;tbnw=99&amp;hl=en&amp;start=8&amp;prev=/images%3Fq%3Dfifa%2Blogo%26svnum%3D10%26hl%3Den%26lr%3D%26safe%3Doff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2552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FA World Cup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327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ision Mode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60.235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fessor Jur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ember 1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200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ulio Burcia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dres Cop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uricio Ga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sidor Ili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o M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799920" cy="54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590920" y="1295280"/>
            <a:ext cx="799920" cy="542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65760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72428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799920" cy="54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701028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815328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380880" y="1295280"/>
            <a:ext cx="8002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9760" y="2057400"/>
            <a:ext cx="125676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1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2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3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4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71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429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set of pots is defined by using a certain criteria (i.e. FIFA Rank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743200"/>
            <a:ext cx="99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133720"/>
            <a:ext cx="16002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 groups, 4 team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590920"/>
            <a:ext cx="7621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1447920"/>
            <a:ext cx="160020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4 Games are simul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n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2895480"/>
            <a:ext cx="1600200" cy="1739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l calculates revenue associated to each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2590920"/>
            <a:ext cx="7621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2133720"/>
            <a:ext cx="144792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World Cup Reven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3276720"/>
            <a:ext cx="0" cy="1676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209320" y="4952880"/>
            <a:ext cx="5867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9680" y="297144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62320" y="518148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odel runs 10,000 world cups for each set of 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447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362320"/>
            <a:ext cx="0" cy="53316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5148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l tests one set of pots at a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942160"/>
            <a:ext cx="4114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Distribution of World Cup Revenues for a set of p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Assum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 probability table to simulate individual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babilities are based on data from Sports betting ho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n In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tion, number of stadi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ing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ch relev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gher weight on advanced ro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sed on previous World C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neral soccer fan spillover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84920" y="3962520"/>
            <a:ext cx="1459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enue Cal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752480"/>
            <a:ext cx="8915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u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DP x Fan Index x % soccer spending x Round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=Gross Domestic Product of participating 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n Index = # soccer stadiums over 30k spectators per 100,000 people; normalized to host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cer spending=average spending of available income in world cup related 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und weight=weight assigned to relevance of m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tested 7 different Pot combinations, grouping the teams based 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ntry’s GDP (largest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A Ranking (top ranked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ld Cup Seeding (top ranked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tting odds (best odds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ographic location (grouped by continent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phabetically (descending ord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pulation (larger countries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657360" cy="637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943600" y="5943600"/>
            <a:ext cx="657360" cy="638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848720" y="2286000"/>
            <a:ext cx="6570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tandard deviation of the average revenues is very small (~$16 million). FIFA seems to have a fool-proof cash cow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ever, the geographical criteria seems to produce the lowest revenue, while the World Cup ranking criteria the highe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ctual criteria chosen by FIFA is a hybrid of these two.  Tier 1 Pot is for the highest ranked, and the other pots are arranged according to geograph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895480" cy="245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3276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ving the richest countries in Tier 1 pot, where they are less likely to eliminate each others before the final rounds, is not as efficient as having the best ranked teams in the tier 1 po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explanation for this is that despite being richer, certain countries (like the US) have a much smaller fan base.  Thus they will not generate as much revenues as less affluent countries with more fa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A could increase revenues generated in future World Cups by shifting to a pot structure based on FIFA country ranking al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638680" y="5316480"/>
            <a:ext cx="2133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652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agerial Probl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t Scenar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ommend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 &amp; 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World Cup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A World Cup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the most important competition in international foo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st widely-viewed and followed sporting event in the world exceeding even the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d every 4 yea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 national soccer teams play qualifying rounds over three years and only 32 qualify for the fi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19051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it work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5105520" cy="338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2400" y="1295280"/>
            <a:ext cx="1256760" cy="119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1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2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3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4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19810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447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ra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1447920"/>
            <a:ext cx="16002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 groups, 4 team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495680"/>
            <a:ext cx="2133720" cy="1465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nner and runner up of each group goes on to the next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981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34290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600200"/>
            <a:ext cx="2209680" cy="2014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ams within the groups play each other (round robin) to determine winner and runner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333760" y="4876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rect Elimination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oup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181480" y="3429000"/>
            <a:ext cx="2895840" cy="312408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rawing 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295280"/>
            <a:ext cx="83808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295280"/>
            <a:ext cx="83844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1295280"/>
            <a:ext cx="83808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295280"/>
            <a:ext cx="83844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GROU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5257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89" idx="2"/>
            <a:endCxn id="198" idx="1"/>
          </p:cNvCxnSpPr>
          <p:nvPr/>
        </p:nvCxnSpPr>
        <p:spPr>
          <a:xfrm flipH="1" rot="16200000">
            <a:off x="2762280" y="1238040"/>
            <a:ext cx="1372320" cy="49917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0" idx="2"/>
          </p:cNvCxnSpPr>
          <p:nvPr/>
        </p:nvCxnSpPr>
        <p:spPr>
          <a:xfrm flipH="1" rot="16200000">
            <a:off x="2952720" y="2037960"/>
            <a:ext cx="1905480" cy="3924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2"/>
            <a:endCxn id="201" idx="1"/>
          </p:cNvCxnSpPr>
          <p:nvPr/>
        </p:nvCxnSpPr>
        <p:spPr>
          <a:xfrm flipH="1" rot="16200000">
            <a:off x="3218400" y="2761920"/>
            <a:ext cx="2439000" cy="301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2" idx="2"/>
            <a:endCxn id="199" idx="1"/>
          </p:cNvCxnSpPr>
          <p:nvPr/>
        </p:nvCxnSpPr>
        <p:spPr>
          <a:xfrm flipH="1" rot="16200000">
            <a:off x="3485160" y="3562200"/>
            <a:ext cx="2972520" cy="1943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ts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520" y="1336320"/>
            <a:ext cx="2133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ier 2 P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g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l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h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o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114300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1143000"/>
            <a:ext cx="2133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295280"/>
            <a:ext cx="2133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ier 1 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g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67152 0.50278 E">
                                      <p:cBhvr>
                                        <p:cTn id="6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 L 0.68507 -0.10556 E">
                                      <p:cBhvr>
                                        <p:cTn id="10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3 0.00833 L 0.41441 0.18611 E">
                                      <p:cBhvr>
                                        <p:cTn id="14" dur="2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0.02222 C 0.16406 -0.01019 0.34375 -0.04259 0.41319 -0.05463 C 0.48264 -0.06667 0.44184 -0.05857 0.40121 -0.05047 E">
                                      <p:cBhvr>
                                        <p:cTn id="18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22222E-006 C 0.17708 -0.1243 0.35417 -0.24838 0.425 -0.29791 E">
                                      <p:cBhvr>
                                        <p:cTn id="22" dur="2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5573 -0.01528 0.51146 -0.03033 0.57882 -0.00209 C 0.64619 0.02615 0.43455 0.14166 0.40469 0.16967 E">
                                      <p:cBhvr>
                                        <p:cTn id="26" dur="2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6059 0.00023 0.52118 0.00046 0.63489 -0.01227 C 0.74861 -0.025 0.71528 -0.05092 0.68194 -0.07685 E">
                                      <p:cBhvr>
                                        <p:cTn id="30" dur="2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5851 -0.08472 0.71702 -0.16945 0.83334 -0.22014 C 0.94966 -0.27083 0.82396 -0.28796 0.69844 -0.30486 E">
                                      <p:cBhvr>
                                        <p:cTn id="34" dur="2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365 0.19653 0.30747 0.39329 0.34844 0.48287 C 0.38941 0.57222 0.31736 0.55486 0.24549 0.53727 E">
                                      <p:cBhvr>
                                        <p:cTn id="38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6459 0.04514 0.32934 0.09028 0.41511 0.08496 C 0.50087 0.07963 0.50799 0.02361 0.51511 -0.03217 E">
                                      <p:cBhvr>
                                        <p:cTn id="42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11129 -0.04445 0.22274 -0.08889 E">
                                      <p:cBhvr>
                                        <p:cTn id="46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24306 0.1919 0.48628 0.3838 E">
                                      <p:cBhvr>
                                        <p:cTn id="50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25157 -0.01528 0.50313 -0.03032 E">
                                      <p:cBhvr>
                                        <p:cTn id="54" dur="2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26198 0.03635 0.52413 0.07269 E">
                                      <p:cBhvr>
                                        <p:cTn id="58" dur="2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12274 0.01597 0.24548 0.03218 E">
                                      <p:cBhvr>
                                        <p:cTn id="62" dur="2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073 0.11203 0.21459 0.2243 0.25469 0.19004 C 0.2948 0.15578 0.26789 -0.02524 0.24098 -0.20602 E">
                                      <p:cBhvr>
                                        <p:cTn id="66" dur="2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s for Next W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59000" y="1066680"/>
            <a:ext cx="648972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nagerial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A generates TV licensing, merchandising, and ticket revenue from the World Cup ($3 Billion for last World Cu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Ques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what extend can FIFA increase revenues from the World Cup by manipulating the Pots from which it draws the group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267080" y="5362560"/>
            <a:ext cx="1505160" cy="149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81952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44792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63920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16292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15000" y="5362560"/>
            <a:ext cx="15048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9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Modeling Techniqu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te Carlo Simu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s – used in drawing for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 expected revenues by testing different pots arrang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08:26Z</dcterms:created>
  <dc:creator>Chao W. Mui</dc:creator>
  <dc:description/>
  <dc:language>en-US</dc:language>
  <cp:lastModifiedBy>Chao W. Mui</cp:lastModifiedBy>
  <dcterms:modified xsi:type="dcterms:W3CDTF">2005-12-12T01:58:30Z</dcterms:modified>
  <cp:revision>56</cp:revision>
  <dc:subject/>
  <dc:title>2006 World Cup Revenue Maximization</dc:title>
</cp:coreProperties>
</file>